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C1D3-546D-46A6-9E59-FF5C7E18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CDE9-19BB-487F-97DA-B9694F38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BE2D-6540-4918-9183-0F672E18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411D-C119-42E3-91D6-B8E2379F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D926-A4AA-4525-A687-3E79EFAD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4008-C74B-40E8-9EB1-A963F247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7089-0CAC-494A-B53B-D477393E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CB08-74E6-41F2-AA12-440BA098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A72F-2EF4-49B7-B7FA-BE77735E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7A77-21A6-456A-B4E4-B5765EF6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5625-BF1E-41C8-AFFF-08AA9077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F08D-0583-4187-98F7-0E53EE5B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0B63-B3EF-42FC-BF39-4D33941B0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62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radley Hand ITC"/>
              </a:rPr>
              <a:t>Family Life in The Medieval Perio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640080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Sara G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"/>
              </a:rPr>
              <a:t>Different Kinds of Ho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4419720"/>
            <a:ext cx="3333600" cy="2190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267080" y="27432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0" y="1219320"/>
            <a:ext cx="4264200" cy="2828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60958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"/>
              </a:rPr>
              <a:t>A peasants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32004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"/>
              </a:rPr>
              <a:t>A lords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5410080"/>
            <a:ext cx="40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"/>
              </a:rPr>
              <a:t>A middle class citizens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Works Citi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tuard, Susan. "Women in Medieval Society." 1993 1. 02 18 2008 &lt;http://www.questia.com/PM.qst?a=o&amp;d=24951717&gt;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"Love, Marriage, Romance &amp; Women...." 1998 02 18 2008 &lt;http://www.dfwx.com/medieval_cult.html&gt;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Gies, Frances. "The Medieval Child, Part 1." 197. 02 18 2008 &lt;http://historymedren.about.com/library/weekly/aa100500a.htm&gt;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Century"/>
              </a:rPr>
              <a:t>A few fa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entury"/>
              </a:rPr>
              <a:t>We know little about the family life and economics of medieval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entury"/>
              </a:rPr>
              <a:t>Women were not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entury"/>
              </a:rPr>
              <a:t>They valued childhood in some cases, but in others they saw children as adults from the time they were very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entury"/>
              </a:rPr>
              <a:t>Men were seen as head of the household, strict, and hard-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Bab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entury"/>
              </a:rPr>
              <a:t>Many mothers did not make it through childbirth, a priest would come and they would have to do everything a dying man would do, just incase they d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entury"/>
              </a:rPr>
              <a:t>A baby would be baptized 8 days after it was born, but if the baby died it would not be discussed and be thrown into a ditch in the corner of a church ya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entury"/>
              </a:rPr>
              <a:t>A midwife would usually baptize the 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entury"/>
              </a:rPr>
              <a:t>Child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entury"/>
              </a:rPr>
              <a:t>Children were mostly treated as if they were adults by the time they could wal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entury"/>
              </a:rPr>
              <a:t>The boys would grow up to learn there fathers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entury"/>
              </a:rPr>
              <a:t>The average father would spend more time scolding his children than showing affection for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entury"/>
              </a:rPr>
              <a:t>For the most part, there are no children's songs, pictures of children, or writings of how wonderful children were to have a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66880" y="3733920"/>
            <a:ext cx="369576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Century"/>
              </a:rPr>
              <a:t>Childr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entury"/>
              </a:rPr>
              <a:t>For a child's past times many sports would be played, such as tennis, chess, and wrest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entury"/>
              </a:rPr>
              <a:t>Teenagers who liked to show their rebellious sides would often gam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entury"/>
              </a:rPr>
              <a:t>Many teenagers were married very young, there are even some cases of twelve and thirteen year olds being married and living on thei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entury"/>
              </a:rPr>
              <a:t>Marri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entury"/>
              </a:rPr>
              <a:t>Women had no choice in who they mar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entury"/>
              </a:rPr>
              <a:t>Who you married determined how well you would live the rest of your life by how much money, cattle, and land your husband 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entury"/>
              </a:rPr>
              <a:t>Usually a whole town, even the lords would help the parents decide a good match for their daug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7315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entury"/>
              </a:rPr>
              <a:t>Marri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entury"/>
              </a:rPr>
              <a:t>Very rarely the men were able to choose there b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entury"/>
              </a:rPr>
              <a:t>Most couples were generally strangers until the parents introduced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entury"/>
              </a:rPr>
              <a:t>A notice was posted on the church door to notify when the wedding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entury"/>
              </a:rPr>
              <a:t>Girls were usually 12 and the boy was usually 17 when they were told they would be marr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Century"/>
              </a:rPr>
              <a:t>Marriage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entury"/>
              </a:rPr>
              <a:t>When the marriage notice was posted people from the town would come forward and tell the family if there were any reasons they should not be marr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entury"/>
              </a:rPr>
              <a:t>One major reason was that the couple was to closely re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entury"/>
              </a:rPr>
              <a:t>If a person knew that one of them was a rapist, committed adultery, or was a thief they would come forward and t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Century"/>
              </a:rPr>
              <a:t>A Peasants Hou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entury"/>
              </a:rPr>
              <a:t>Mostly made from o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entury"/>
              </a:rPr>
              <a:t>A house was one story high, with a loft or attic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entury"/>
              </a:rPr>
              <a:t>A fire burned at almost all times in the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entury"/>
              </a:rPr>
              <a:t>There was a hole in the ceiling called a louvre that let smoke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entury"/>
              </a:rPr>
              <a:t>Thieves often broke into the house by cutting a hole in the wall because it was much quieter than breaking the lock on the front d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267080" y="4648320"/>
            <a:ext cx="4600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7:23:44Z</dcterms:created>
  <dc:creator>Phil Fite</dc:creator>
  <dc:description/>
  <dc:language>en-US</dc:language>
  <cp:lastModifiedBy>Sara </cp:lastModifiedBy>
  <dcterms:modified xsi:type="dcterms:W3CDTF">2008-02-19T03:24:41Z</dcterms:modified>
  <cp:revision>3</cp:revision>
  <dc:subject/>
  <dc:title>Family Life in The Medieval Period</dc:title>
</cp:coreProperties>
</file>